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4ED-2024-41A1-A564-5B2387FE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07C-989D-4622-BFAE-EFFBB840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F70-4AD0-494B-AE41-AF9001F7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B329-18AF-426B-80B0-1CEE1E89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9BFF-7169-4168-BF2B-74FD6FA6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8A72-AEEC-4420-98D4-B56D3EBE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C5DA-E571-46C8-84D1-7C26E10E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CAD-7E8C-4518-8D83-324A8C82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B9A-C427-4B76-83D8-1BDB53A9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B273-A825-41D4-89E0-AC7DD077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778-1EF5-46A0-BBE6-8596CEB5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FE8-CF80-43A5-B04D-F607CEF4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7E850-9762-4490-B198-455625D4A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3:18:03Z</dcterms:created>
  <dc:creator/>
  <dc:description/>
  <dc:language>en-US</dc:language>
  <cp:lastModifiedBy/>
  <cp:revision>0</cp:revision>
  <dc:subject/>
  <dc:title/>
</cp:coreProperties>
</file>